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CE20-D7CE-4ABE-B2A7-B8AFA4C5B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5300-0190-40AA-8127-B6334250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92AF-CCF3-43A6-88FC-7ABD0F3BB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4ACF-CDC6-4F3B-8016-258F65116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6E1A-C73F-4D73-943F-D564FDC76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13E5-45F7-472F-B288-F4A813D1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370B-308B-41EA-9E3B-8E4E010F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9EA1-BE6F-4297-B6E2-499602CB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E9BB-A79A-4CBD-8A86-8B7ACA2D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00B1-8A2A-48DF-9E2A-4E0FF732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48CE1-D104-45B8-917C-DDEACF54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C3B9-B3D5-4EE7-8270-D0B44A6E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0D64-0F60-40E2-8556-F0D1BF36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C04C-DE32-45FC-BF83-EFA313A9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49E0-4CED-4C17-AA55-D594739B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B5A9-0A61-4BD8-B230-0CFEDCA98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30A2-9FBE-42C8-99B9-8831DD2E4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6820-CD6F-47E4-912C-CB693B58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90F5-9D85-4584-A3DF-64F5BC97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35BC-06A7-48C1-B39B-33B33F46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FB90-49D1-4339-8B67-7C8B4E5D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AA9E-DB44-4E16-9AE4-C3875F3A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7F98-6198-4696-9832-2446D971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A96F-7E53-4541-B33A-8F41116A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2E92-05C6-443A-9624-4850386D754B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1C9B-8547-489A-BAB4-6A3B722CE2B7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0/310/1420310/f_5710274.jpg" TargetMode="External"/><Relationship Id="rId2" Type="http://schemas.openxmlformats.org/officeDocument/2006/relationships/hyperlink" Target="http://www.demoscope.ru/weekly/2002/085/img/litta.jpg" TargetMode="External"/><Relationship Id="rId3" Type="http://schemas.openxmlformats.org/officeDocument/2006/relationships/hyperlink" Target="http://cravingideas.blogs.com/photos/uncategorized/mona_lisa_1.jpg" TargetMode="External"/><Relationship Id="rId4" Type="http://schemas.openxmlformats.org/officeDocument/2006/relationships/hyperlink" Target="http://www.abc-people.com/data/leonardov/vecherya1.jpg" TargetMode="External"/><Relationship Id="rId5" Type="http://schemas.openxmlformats.org/officeDocument/2006/relationships/hyperlink" Target="http://waking-up.org/wp-content/uploads/2011/06/Michelangelo_portrait.jpg" TargetMode="External"/><Relationship Id="rId6" Type="http://schemas.openxmlformats.org/officeDocument/2006/relationships/hyperlink" Target="http://3-21vzlet.ru/wp-content/uploads/2011/08/david.jpg" TargetMode="External"/><Relationship Id="rId7" Type="http://schemas.openxmlformats.org/officeDocument/2006/relationships/hyperlink" Target="http://www.centre.smr.ru/images/pics/pic0116/pic0116_1024.jpg" TargetMode="External"/><Relationship Id="rId8" Type="http://schemas.openxmlformats.org/officeDocument/2006/relationships/hyperlink" Target="http://www.histoiredelart.net/artistes/XVI/tableaux_raphael/Raphael-Autoportrait-1506.jpg" TargetMode="External"/><Relationship Id="rId9" Type="http://schemas.openxmlformats.org/officeDocument/2006/relationships/hyperlink" Target="http://www.legacyofthecauldron.com/Raphael_ConestabileSQ.jpg" TargetMode="External"/><Relationship Id="rId10" Type="http://schemas.openxmlformats.org/officeDocument/2006/relationships/hyperlink" Target="http://img0.liveinternet.ru/images/attach/c/3/83/293/83293330_Rafael_017__Sikstinskaya_madonna.jpg" TargetMode="External"/><Relationship Id="rId11" Type="http://schemas.openxmlformats.org/officeDocument/2006/relationships/hyperlink" Target="http://www.usc.edu/schools/annenberg/asc/projects/comm544/library/images/008.jpg" TargetMode="External"/><Relationship Id="rId12" Type="http://schemas.openxmlformats.org/officeDocument/2006/relationships/hyperlink" Target="http://www.ibiblio.org/wm/paint/auth/bruegel/dance.jpg" TargetMode="External"/><Relationship Id="rId13" Type="http://schemas.openxmlformats.org/officeDocument/2006/relationships/hyperlink" Target="http://de.academic.ru/pictures/dewiki/80/Pieter_Bruegel_the_Elder-_The_Corn_Harvest_(August).JPG" TargetMode="External"/><Relationship Id="rId14" Type="http://schemas.openxmlformats.org/officeDocument/2006/relationships/hyperlink" Target="http://www.math.nus.edu.sg/~matmcinn/picture/Brueghel_the_elder_-_Hunters_in_the_snow.jpg" TargetMode="External"/><Relationship Id="rId15" Type="http://schemas.openxmlformats.org/officeDocument/2006/relationships/hyperlink" Target="http://img-fotki.yandex.ru/get/4711/53496785.93/0_78eee_36d30baa_XL" TargetMode="External"/><Relationship Id="rId16" Type="http://schemas.openxmlformats.org/officeDocument/2006/relationships/hyperlink" Target="http://www.artholland.ru/art/r/rembrand/img/94.jpg" TargetMode="External"/><Relationship Id="rId17" Type="http://schemas.openxmlformats.org/officeDocument/2006/relationships/hyperlink" Target="http://blog.artnn.ru/images_2006/vozvraschenie_bludnogo_syna_rembrandt_1669.jpg" TargetMode="External"/><Relationship Id="rId18" Type="http://schemas.openxmlformats.org/officeDocument/2006/relationships/hyperlink" Target="http://www.bibliotekar.ru/Kdurer/index.files/image001.jpg" TargetMode="External"/><Relationship Id="rId19" Type="http://schemas.openxmlformats.org/officeDocument/2006/relationships/hyperlink" Target="http://www.zavtra.ru/cgi/veil/data/zavtra/11/906/81.jpg" TargetMode="External"/><Relationship Id="rId20" Type="http://schemas.openxmlformats.org/officeDocument/2006/relationships/hyperlink" Target="http://www.lib.unc.edu/coursepages/reli/images/Durer_Erasmus.jpg" TargetMode="External"/><Relationship Id="rId21" Type="http://schemas.openxmlformats.org/officeDocument/2006/relationships/hyperlink" Target="http://s05.radikal.ru/i178/0908/02/4c6013b5b4b3.jpg" TargetMode="External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71600" y="457200"/>
            <a:ext cx="72388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Book Antiqua"/>
              </a:rPr>
              <a:t>Мир художественной культуры                                   Эпохи Возрождения</a:t>
            </a:r>
            <a:r>
              <a:rPr b="1" lang="en-US" sz="6000" spc="-1" strike="noStrike">
                <a:solidFill>
                  <a:srgbClr val="336666"/>
                </a:solidFill>
                <a:latin typeface="Book Antiqua"/>
              </a:rPr>
              <a:t> </a:t>
            </a:r>
            <a:endParaRPr b="0" lang="en-US" sz="6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2280" y="4495680"/>
            <a:ext cx="2448000" cy="1836720"/>
          </a:xfrm>
          <a:prstGeom prst="rect">
            <a:avLst/>
          </a:prstGeom>
          <a:ln w="9360">
            <a:solidFill>
              <a:srgbClr val="3366cc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438280" y="3809880"/>
            <a:ext cx="6507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Учитель истории и обществознания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Ганюшин Михаил Евгеньевич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МБОУ Ичалковская СОШ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Перевозский район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Нижегородская область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Рафаэль Санти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(1483-1520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00400" y="1295280"/>
            <a:ext cx="3889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505320" y="685800"/>
            <a:ext cx="5437080" cy="5486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2280" y="2057400"/>
            <a:ext cx="32004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адонна  Конестабиле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768840" y="228600"/>
            <a:ext cx="5062320" cy="6400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28600" y="2133720"/>
            <a:ext cx="320040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Сикстинская мадонн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Картинная галерея, Дрезден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676520" y="380880"/>
            <a:ext cx="7238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Питер Брейгель Старший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          (1525/1530-1569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32280" y="1523880"/>
            <a:ext cx="40035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47920" y="1592280"/>
            <a:ext cx="7238880" cy="5054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Крестьянский танец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истории искусства, Вен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7172280" cy="4924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Жатва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Метрополитен, Нью-Йорк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7219800" cy="50691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Охотники на снегу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истории искусства, Вен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76520" y="380880"/>
            <a:ext cx="7238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Рембрандт Харменс ван Рейн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          (1606-1669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24360" y="1523880"/>
            <a:ext cx="4147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86200" y="304920"/>
            <a:ext cx="4921200" cy="6286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4920" y="2057400"/>
            <a:ext cx="32004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Портрет старика в красном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5127840" cy="6315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4920" y="2133720"/>
            <a:ext cx="32004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Возвращение блудного сын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Леонардо да Винчи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(1452-1519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3754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Альбрехт Дюрер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(1471-1528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11560" y="1219320"/>
            <a:ext cx="392904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267080" y="380880"/>
            <a:ext cx="4461120" cy="6172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52280" y="2133720"/>
            <a:ext cx="39625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Четыре апокалиптических всадник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Гравюра из серии «Апокалипсис»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091040" y="304920"/>
            <a:ext cx="4825800" cy="6248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52280" y="2209680"/>
            <a:ext cx="39625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Эразм Роттердамский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Гравюра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676520" y="380880"/>
            <a:ext cx="7238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Ганс Гольбейн Младший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(1497-1543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879640" y="1143000"/>
            <a:ext cx="40053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46680" y="304920"/>
            <a:ext cx="5005080" cy="6248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4920" y="205740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Портрет Уильяма Уорхэм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Лувр, Париж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86200" y="228600"/>
            <a:ext cx="4889520" cy="64101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28600" y="2209680"/>
            <a:ext cx="3429000" cy="30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Портрет члена семьи Ведигов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Музей Метрополитен,   Нью-Йорк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Диего Веласкес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(1599-1660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124080" y="1219320"/>
            <a:ext cx="43293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135240" y="304920"/>
            <a:ext cx="5819760" cy="6248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52280" y="2362320"/>
            <a:ext cx="289584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Завтрак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447920" y="1654200"/>
            <a:ext cx="7543800" cy="4903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Пряхи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Прадо, Мадрид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685800"/>
            <a:ext cx="74674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1. Рембрандт и Рафаэль были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путешественниками, открывшими новые земли                                                                         2) художниками эпохи Возрождения                  3) учёными и философами                                   4) драматургами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3809880"/>
            <a:ext cx="7543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А2. Создатель статуи «Давид»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) Леонардо да Винчи                                                2) Микеланджело Буонарроти                                 3) Альбрехт Дюрер                                                    4) Томас Мор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20574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48006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038480" y="228600"/>
            <a:ext cx="4940280" cy="6350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8600" y="2133720"/>
            <a:ext cx="36576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адонна Литта  (Мадонна с младенцем)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447920" y="685800"/>
            <a:ext cx="74674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А3. Картину «Возвращение блудного сына» написал художник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) Леонардо да Винчи                                                                         2) Альбрехт Дюрер                                                 3) Рафаэль Санти                                                    4) Рембрандт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3657600"/>
            <a:ext cx="75438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4. Изображение сюжетов из жизни простых крестьян и горожан характеризует искусство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Итальянского Возрождения                                                2) Северного Возрождения                                    3) готическое                                                             4) античное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27432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50292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7920" y="685800"/>
            <a:ext cx="7696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5. Ранее всего эпоха Возрождения началась в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Италии                                                                         2) Испании                                                                   3) Германии                                                                 4) Голландии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3200400"/>
            <a:ext cx="75438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6. Отличительной чертой искусства эпохи Возрождения было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использование цветомузыки                                                2) использование библейских сюжетов                                    3) использование достижений античной культуры                                                                   4) отсутствие портретного сходства в изображении людей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29528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4876920"/>
            <a:ext cx="990720" cy="304560"/>
          </a:xfrm>
          <a:custGeom>
            <a:avLst/>
            <a:gdLst>
              <a:gd name="textAreaLeft" fmla="*/ 154800 w 990720"/>
              <a:gd name="textAreaRight" fmla="*/ 866880 w 99072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23880" y="15228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В1. Установите соответствие между автором и произведением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" y="1397160"/>
          <a:ext cx="8077320" cy="3456000"/>
        </p:xfrm>
        <a:graphic>
          <a:graphicData uri="http://schemas.openxmlformats.org/drawingml/2006/table">
            <a:tbl>
              <a:tblPr/>
              <a:tblGrid>
                <a:gridCol w="4038480"/>
                <a:gridCol w="4038840"/>
              </a:tblGrid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р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едение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Леонардо да Винчи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«Портрет старика в красном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Питер Брейгель Старший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«Четыре всадника Апокалипсиса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Альбрехт Дюрер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«Тайная вечеря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«Крестьянский танец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2209680" y="5257800"/>
          <a:ext cx="6096240" cy="1270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533520" y="5334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Ответ: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162920" y="5943600"/>
            <a:ext cx="25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cc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cc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124080" y="5943600"/>
            <a:ext cx="2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cc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cc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105520" y="5943600"/>
            <a:ext cx="25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cc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523880" y="533520"/>
            <a:ext cx="7162920" cy="51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Литература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Юдовская А.Я., Баранов П.А., Ванюшкина Л.М. Новая история, 1500-1800, 7 класс. М.: «Просвещение», 2009г.;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Соловьёв К.А. Универсальные поурочные разработки по Новой истории, 1500-1800гг., 7 класс. М.: «Вако», 2009г.;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Волкова К.В. Контрольно-измерительные материалы. История Нового времени: 7 класс. М.: «Вако», 2011г.</a:t>
            </a: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33520" y="152280"/>
            <a:ext cx="8381880" cy="68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Интернет ресурсы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"/>
              </a:rPr>
              <a:t>http://img1.liveinternet.ru/images/foto/b/0/310/1420310/f_5710274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Автопортре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2"/>
              </a:rPr>
              <a:t>http://www.demoscope.ru/weekly/2002/085/img/litta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Мадонна Литт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3"/>
              </a:rPr>
              <a:t>http://cravingideas.blogs.com/photos/uncategorized/mona_lisa_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Мона Лиз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4"/>
              </a:rPr>
              <a:t>http://www.abc-people.com/data/leonardov/vecherya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Тайная вечеря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5"/>
              </a:rPr>
              <a:t>http://waking-up.org/wp-content/uploads/2011/06/Michelangelo_portrait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Микеланджело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6"/>
              </a:rPr>
              <a:t>http://3-21vzlet.ru/wp-content/uploads/2011/08/david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Микеланджело - Давид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7"/>
              </a:rPr>
              <a:t>http://www.centre.smr.ru/images/pics/pic0116/pic0116_1024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Микеланджело - Сотворение Адам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8"/>
              </a:rPr>
              <a:t>http://www.histoiredelart.net/artistes/XVI/tableaux_raphael/Raphael-Autoportrait-1506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афаэль - Автопортре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9"/>
              </a:rPr>
              <a:t>http://www.legacyofthecauldron.com/Raphael_ConestabileSQ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афаэль - Мадонна Конестабиле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</a:t>
            </a: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0"/>
              </a:rPr>
              <a:t>http://img0.liveinternet.ru/images/attach/c/3/83/293/83293330_Rafael_017__Sikstinskaya_madonna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афаэль - Сикстинская мадонн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  </a:t>
            </a: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1"/>
              </a:rPr>
              <a:t>http://www.usc.edu/schools/annenberg/asc/projects/comm544/library/images/008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Питер Брейгель Старший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</a:t>
            </a: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2"/>
              </a:rPr>
              <a:t>http://www.ibiblio.org/wm/paint/auth/bruegel/dance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Питер Брейгель Старший – Крестьянский танец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3"/>
              </a:rPr>
              <a:t>http://de.academic.ru/pictures/dewiki/80/Pieter_Bruegel_the_Elder-_The_Corn_Harvest_(August)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– Питер Брейгель Старший – Жатв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4"/>
              </a:rPr>
              <a:t>http://www.math.nus.edu.sg/~matmcinn/picture/Brueghel_the_elder_-_Hunters_in_the_snow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Питер Брейгель Старший – Охотники на снегу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5"/>
              </a:rPr>
              <a:t>http://img-fotki.yandex.ru/get/4711/53496785.93/0_78eee_36d30baa_XL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ембранд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6"/>
              </a:rPr>
              <a:t>http://www.artholland.ru/art/r/rembrand/img/94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ембрандт - Портрет старика в красном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7"/>
              </a:rPr>
              <a:t>http://blog.artnn.ru/images_2006/vozvraschenie_bludnogo_syna_rembrandt_1669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ембрандт - Возвращение блудного сын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8"/>
              </a:rPr>
              <a:t>http://www.bibliotekar.ru/Kdurer/index.files/image00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Альбрехт Дюрер - Автопортре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9"/>
              </a:rPr>
              <a:t>http://www.zavtra.ru/cgi/veil/data/zavtra/11/906/8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Альбрехт Дюрер - Четыре апокалиптических всадник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20"/>
              </a:rPr>
              <a:t>http://www.lib.unc.edu/coursepages/reli/images/Durer_Erasmus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Альбрехт Дюрер - Эразм Роттердамский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21"/>
              </a:rPr>
              <a:t>http://s05.radikal.ru/i178/0908/02/4c6013b5b4b3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Ганс Гольбейн Младший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img0.liveinternet.ru/images/attach/c/1/53/851/53851773_3warham.jpg - Ганс Гольбейн Младший – Портрет Уильяма Уорхэм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www.wga.hu/art/h/holbein/hans_y/1535/1wedigh.jpg - Ганс Гольбейн - Портрет члена семьи Ведигов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img0.liveinternet.ru/images/attach/c/4/79/902/79902068_SelfPortrait_1643.jpg - Диего Веласкес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www.art-pics.ru/pics/1636/%C4%E8%E5%E3%EE%20%C2%E5%EB%E0%F1%EA%E5%F1-%C7%E0%E2%F2%F0%E0%EA.jpg – Диего Веласкес – Завтрак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www.varvar.ru/arhiv/gallery/baroque/velazquez/images/velazquez20.jpg - Диего Веласкес - Пряхи.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62520" y="304920"/>
            <a:ext cx="4865400" cy="6352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28600" y="2209680"/>
            <a:ext cx="3657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она Лиза  (Джоконда)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Лувр, Париж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1704960"/>
            <a:ext cx="8686800" cy="4722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Тайная вечеря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Санта-Мария делле Грацие, Милан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47920" y="380880"/>
            <a:ext cx="7467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икеланджело Буонарроти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        (1475-1564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38941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62320" y="685800"/>
            <a:ext cx="6524640" cy="541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2280" y="2362320"/>
            <a:ext cx="228600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Давид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Академия, Флоренция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763120" cy="4141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523880" y="152280"/>
            <a:ext cx="716292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Сотворение Адама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Фрагмент росписи свода Сикстинской капеллы, Ватикан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52480" y="3808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Стихотворение из Цикла сонетов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2057400"/>
            <a:ext cx="792468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Кто создал всё, кто сотворил и части –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И после выбрал лучшую из них,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Чтоб здесь явить нам чудо дел своих,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Достойное его высокой власти…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2-10-26T08:58:27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